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F28D-B3A2-400E-968B-63BA562A8E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91E4-E2A0-406B-B8CC-800F0C349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D5E8-2E85-49C4-907B-0C23A1900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B9CE-74D2-454E-A8E3-BC98FF35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26AE-E1DA-4FC6-A938-026FD1326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8BFC-8599-457E-A067-871B82462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0C81-2D21-4BA5-8507-7D7CF72EE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4268-47FA-4A7A-85A2-55A9BD749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9B29-87FF-4BFF-83C7-DD2028681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58BE-D1A2-41B9-A835-1FE481EEB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C0759-6162-41D9-8FCE-747A7FC4C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28DD-39D6-461C-9476-0350E0D5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0F345-182A-498A-A26E-E2A842AF6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2976B-2DC9-4D0E-A725-2C8FD66B7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21DE3-751A-4E62-804C-5F99AC117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B5FB2-0082-4BF5-A9C6-3D8085207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411F4-E2C2-49F0-BC13-3D123A9AD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9682B-EAAE-4F3C-8466-A21FD7F4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9CE89-0EDA-43DE-A9BF-E5C57E71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09D9A-81B3-481E-81F3-06EB3F204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89353-8E2E-4D30-B09B-5528AEE56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B2AC-0592-494B-A9A1-E68E5896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DA4C7-A043-48D4-B849-1037DC2E0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B519-0620-4E0C-9ECF-488C14A7C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63529-10BC-449A-850C-26F5BCD48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57D24-E861-4D2F-ABDD-ADF27A304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35CEC-599A-4639-B1F4-6DC4C65A8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3A2D7C-13BA-4150-B857-498D858F8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AB11C-2495-4D60-AA93-1EFF61FB2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49885-0B42-482C-B63D-43E1E0D3E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1F0A9-8C5C-42A0-9701-FF7BEE059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65B69-9C22-4687-9902-C48175B90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D872-4B6B-460B-B2A6-A4801734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552D7-C205-44AA-AB4F-E11DFE530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F0E3E-36A2-4AC9-B446-37130C781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CCCFB-F681-4F5D-8040-EAAD319DF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0FC1B-9282-4E85-A87F-C7B2F1A02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9A9D8-F8BA-4269-8405-BE9E16A52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B60D57-16BB-453A-9DCF-F48DECF1D4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B80242-A4D4-4C11-B6C6-CC826EB8CA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9EBA3-8A1A-4DF9-BD73-BF65F10A8F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942B2-8C69-448C-9B91-5DEAD7A7C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D63C6-94AB-4590-B4F7-4273D733C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67C2-D26E-46C8-8D9B-8E1C334F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6D559-BFF1-4C2A-82D8-7C6F4312E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15E86-1479-40B1-84DE-7F5C73F1C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010DE-A073-405B-9FA1-4CAB14BE4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8876E-2A35-4FBB-A2AC-B8381E239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6A970-DC61-4BB8-84CA-21D4E54B2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F1293-0958-4580-8D3D-E90F49248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A7A0F-9F12-4026-BDF2-AB85A3B3F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30DC0-CB3F-4300-8232-D3B973A055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D99D8-42C8-4B1D-9A6E-43140AE52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8657C-4B0D-47B0-AC96-C393890E83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3BCF-8AD4-410D-BF39-2EB332F80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C6193-5921-43DA-820E-FFB1C7C30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3BC79-965B-4554-B380-D75E7CA39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158DA-D0D8-4486-B8C0-C8F49C6897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19946-F52F-4E39-B5F9-9944AC5E8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02797-19FA-4906-AE45-325C6BDA8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04F9B-1318-44D1-B6A8-9A6B29AC2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6A51E-F8BB-4BA7-8AE6-F1667232D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B4BAD-E85B-4472-BC16-E51810F97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F2FE97-DCCA-480B-A329-9D50FA795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8D1305-9DF7-4988-AF0D-FC48FA80F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9602-6974-45C7-90F0-3C39A197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097ABA-DE2D-4FBB-9B8D-D8E96A6F3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20D2D-798A-4DED-AC1F-6A3BBDE1F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31B87-D166-4E33-BE19-104497E51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BB6FE-C60B-4B3B-80B3-2D0EBED914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61876-C7DE-419F-ADBF-2D07E3A3F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2C596-9B84-4162-A141-349D77DE5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FF74C5-C2A3-499D-B6AD-008D244BE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F2049-AC1B-449A-8F1A-A11B5E071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DCBDB-3CE0-446E-B583-732C3F1E6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FC9E7-C24F-41C7-974C-C04EF76EC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73CA-CFDF-4E59-9E1A-01431704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59A69-D91F-44C2-9BF1-62B47B103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0E1913-273F-4D1A-BF32-79EE25D441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CF3F38-1379-4523-A154-E75E122D51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3E8980-9B2D-401C-860C-DEF2389DA7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885B7-8CAD-4DA5-98B1-C456BD782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AD9CD-C6EF-4292-B71A-FCC3D8AE9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D01C2-0BFC-4349-B2C8-034532432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054F8-C184-450F-85DA-205159FEA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00845-B08B-4AA4-8C50-F1ECA527A5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6729F-FB61-495E-91EA-8D3057BF1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5CD1-2471-4C08-9F5D-F8393D8C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CA092-857F-4D19-9262-7639D71FC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D7FCC-8E81-41A6-9260-190DBD9F5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09A70-4205-4E1C-BF2E-3AE9DA6DB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A10956-6B47-40B0-8929-04E0DC3AA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4F5C69-1B6F-4E80-B194-DD0EA0390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3C3FD-99D8-4E6F-9DE2-F364A36DD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88B82A-EFD7-4D2A-B0CB-319B8B981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79F377-C546-4C6D-9B2C-19E7A1F5D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2EAC2-E2A9-4C1E-A516-23C51D597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D3512-00BB-4259-9FB3-B415F2356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64D9-6E9F-4BDC-B7BC-099DB705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F1B736-D6B6-4A21-A801-224E98438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C802E-17B6-43FA-9531-C0915B8AF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C2F17-2B71-4111-9733-47A096016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E227C-75F7-4100-B2E6-14375E0EB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15EE5-1AEC-49F8-B5C6-E97DA0D34E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6C8732-28B5-4735-8913-30E1A7894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05705-013D-449A-9EFC-04C0D9EED1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3DF4-B963-4561-89BC-B21E165FA57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3BC5-F274-4CBA-B7F2-29CA71BF198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3EE8-7D00-41E3-9EDD-2AF652AF9DCD}"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7624-E4D3-4A69-A4E9-CD6C3ABC01C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DE02-DD43-44B4-A19F-EFF67C50735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0271-C1EC-4E65-A5E8-FFAD277064A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05F3-C4FE-4608-B3EF-DB915F9601F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981C-0557-4904-BCF4-3FED56CB777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nipunb</cp:lastModifiedBy>
  <dcterms:modified xsi:type="dcterms:W3CDTF">2009-05-01T19:38:47Z</dcterms:modified>
  <cp:revision>70</cp:revision>
  <dc:subject/>
  <dc:title>RDF Store – Evaluations and Issues</dc:title>
</cp:coreProperties>
</file>